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651-7E74-41FD-8D4F-C854281A4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481-9604-4F48-8747-B18C213A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22C6-A7F6-4733-ADA0-4C82E245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C00B-21E1-4EBD-B5AF-8E734FC5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EA84-DD31-4E0C-8449-A37B38E5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CC96-3674-4EA3-ACFB-9E6A4BDF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E05C-B3A6-4F1B-9082-1030A7F6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39C6-8E57-4529-B131-B1210B42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4D80-B38C-40E5-8CC2-B87EA0D3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9619-3BE7-4EE4-BE1F-20348C19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FE7B-BAEB-464A-9445-E3D768EB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FFCE-D866-4F03-8021-33A4826B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A807-1233-46F3-8917-5520599E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1F90-AB44-4221-93B8-3A0B56B0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E5BF-0873-4251-8C6D-74222530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7659-A5F3-4C26-9A5C-A177FF1B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E471-E4CE-4ABC-8B40-8A86223F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E6E7-8E62-45C6-8C1B-028C58C3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285C-D6EF-4D72-ACC7-C48852D9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BC4-F4CE-4FD6-BB0A-E85F034F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20F3-7047-4305-B060-D0784B88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13D-24C0-41E1-8551-A4E9F230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17BD-C120-4A11-9575-D1233C9E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8F4-4CF5-4642-8BA3-F3A5264F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13BF-E7EE-4963-822E-983304919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92B2-96F4-426E-91D8-C5DE1FF21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science.howstuffworks.com/nanotechnology.htm" TargetMode="External"/><Relationship Id="rId2" Type="http://schemas.openxmlformats.org/officeDocument/2006/relationships/hyperlink" Target="http://www.nanotechnology.com/" TargetMode="External"/><Relationship Id="rId3" Type="http://schemas.openxmlformats.org/officeDocument/2006/relationships/hyperlink" Target="http://www.science-engineering.net/nanotechnology-masters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6407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Fiolex Girls"/>
              </a:rPr>
              <a:t>Nanotechnology</a:t>
            </a:r>
            <a:endParaRPr b="1" lang="en-US" sz="8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320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ia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za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yshnavy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3666960"/>
            <a:ext cx="2843280" cy="319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Ethical Issu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It is right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It will make world a bette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It is likely to reduce other ethical issues (e.g., constructing cells rather than getting them from reproduc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3. It will give us more “god-like” pow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It is wrong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It will give us more “god-like” pow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It may lead to undetectable surveillance; right to privacy could be a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Branches of Scienc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Palatino Linotype"/>
              </a:rPr>
              <a:t>Branches of sciences needed to study this technology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Materials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-506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applied physics and chemistry, as well as chemical, mechanical, civil and 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Natural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-506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nanotechnology, physics, chemistry, astronomy, molecular biology and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7240" indent="-32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6320" indent="-506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the science of the theoretical foundations of information and computation and their implementation and application in comput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Universiti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0000" y="1844640"/>
            <a:ext cx="82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Universities that provide this course ar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Universities in our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1.  University of Toronto - Bachelor of Science in Engineering Science with Nano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2.  University of Waterloo - Bachelor of Applied Science degree in Nanotechnology Engineering program as well as nanotechnology research in camp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Palatino Linotype"/>
              </a:rPr>
              <a:t>Universities out of our 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1.  City University of New York - offers a Ph.D. in Nano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2.  University of Washington - Ph.D. in Nano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Career Opportunitie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Career opportunities exist in areas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Auto and aerospace indus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Sports equi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Bio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Medical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Optoelectron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Environmental monitoring and contr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Food sci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University lab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716440" y="2060640"/>
            <a:ext cx="292896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Bibliography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Palatino Linotype"/>
                <a:hlinkClick r:id="rId1"/>
              </a:rPr>
              <a:t>http://science.howstuffworks.com/nanotechnolog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Palatino Linotype"/>
                <a:hlinkClick r:id="rId2"/>
              </a:rPr>
              <a:t>http://www.nanotechnolog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understandingnano.com/nanotech-application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Palatino Linotype"/>
                <a:hlinkClick r:id="rId3"/>
              </a:rPr>
              <a:t>http://www.science-engineering.net/nanotechnology-masters.htm</a:t>
            </a:r>
            <a:r>
              <a:rPr b="0" lang="en-US" sz="1800" spc="-1" strike="noStrike" u="sng">
                <a:solidFill>
                  <a:srgbClr val="0066ff"/>
                </a:solidFill>
                <a:uFillTx/>
                <a:latin typeface="Palatino Linotyp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nanotech-now.com/introductio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royalsociety.org/page.asp?id=2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livescience.com/nanotechnolog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ethicsweb.ca/nanotechnology/bibliography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Palatino Linotype"/>
              </a:rPr>
              <a:t>http://www.actionbioscience.org/newfrontiers/chen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7640" y="188640"/>
            <a:ext cx="8385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What is Nanotechnology?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Basic Definition: </a:t>
            </a: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Technology of building or creating  products such as electronic circuits from single atoms and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Deals with the making of materials by molecular self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Rearranging atoms to 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Manufactured produ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made from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Properties of produ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depends on how atoms are arr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or instance,</a:t>
            </a:r>
            <a:r>
              <a:rPr b="1" lang="en-US" sz="1800" spc="-1" strike="noStrike">
                <a:solidFill>
                  <a:srgbClr val="080808"/>
                </a:solidFill>
                <a:latin typeface="Palatino Linotype"/>
              </a:rPr>
              <a:t> if we rearrange  the atoms of coal, we can make diamond if we rearrange the atoms in dirt water or air, we can end up with potato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Nanotechnology in the futur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In the future nanotechnology c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 Easily move and put atoms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 Be accomplished inexpens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3.  Be accomplished with help by the laws of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4.  Help us make products more cleaner, stronger, lighter and more pre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435640" y="4581360"/>
            <a:ext cx="2849400" cy="19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How can Nanotechnology help us?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Nanotechnology will help 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 Develop new manufacturing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 Help us build computer systems inexpensively with mole qua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7343640" cy="332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What will nanotechnology assure?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Nanotechnology will assure tha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1.  Every atom is in the right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2.  Make almost all products with the help of laws of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3.  Manufacturing prices will not go higher than the price at which the raw materials were bought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3933720"/>
            <a:ext cx="3047760" cy="26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Application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Improved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rely on change in physica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Nanopartic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ake advantage of increased surface area over volum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trongly change the mechanical properties of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(e.g. makes it light and increases stabilit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286680" y="37893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Medicine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With the help of Nanoparticles, which are the size of molecules, drugs can directly be delivered to diseased cells in the bo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Drug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Iron nanoparticles or gold shells  can be used to treat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Tissu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80808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technology can help reproduce and repair damaged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132000" y="4508640"/>
            <a:ext cx="330516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Energy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technology helps reduce waste and materials and enhances renewable energy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Palatino Linotype"/>
              </a:rPr>
              <a:t>Recycling of Batt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Batteries have low energy density and it also needs rechar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an lead to dispos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materials can be used to help increase higher rate of recharging and energy of batte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This is essential for disposal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796000" y="4508640"/>
            <a:ext cx="2819520" cy="211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Safety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Concerns exist about the possible impacts of manufactured nanoparticles and nanotubes that are free to move a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ree nanoparticles could be inhaled or enter the body through the skin, and cause damage to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particles can affect plants and animals by entering the food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Nanotubes, when inhaled, can cause respirator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Small sensors can be used to spy on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59280" y="4221000"/>
            <a:ext cx="3203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23:31:22Z</dcterms:created>
  <dc:creator> WaRRioR</dc:creator>
  <dc:description/>
  <dc:language>en-US</dc:language>
  <cp:lastModifiedBy>Faiza</cp:lastModifiedBy>
  <dcterms:modified xsi:type="dcterms:W3CDTF">2008-12-19T02:11:15Z</dcterms:modified>
  <cp:revision>64</cp:revision>
  <dc:subject/>
  <dc:title>Nanotechnology</dc:title>
</cp:coreProperties>
</file>